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7FE-3F2C-4E27-823F-011078B2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01E-5685-45A9-B43C-0A29127F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587-BA8E-488D-8DEB-13A78E4C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24C-0F95-47A5-9A50-8ABAF65A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356-961D-4FD1-9639-510F5D0D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C17-3991-4BBA-AE73-DE5AFA63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013-2BB5-42DC-813D-CECAD167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DAB-ED6D-423A-A16F-09D3F316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D28-007C-4E27-9C6A-5EABDB4E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F7E-2209-41F3-89B4-FC896DA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E6E-A300-4D03-B165-0BA3F031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AE3-23A1-4A42-A2DA-637491F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780BF7-EA69-413C-A5B9-EE440945D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99E-3CC6-4B68-BDFE-73EFD6FD4B47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9B8-ED30-492A-886C-1DBA59BD47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E34-E12E-412C-80DE-08C1EBBF2F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686-601F-4989-A009-5AEB8EAFB5B8}" type="slidenum">
              <a:t>3</a:t>
            </a:fld>
          </a:p>
        </p:txBody>
      </p:sp>
    </p:spTree>
  </p:cSld>
  <p:transition spd="med" advTm="1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365-E05F-4121-A988-DDBD3DBF2E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5F1-99AB-4FAD-B768-46C8705FA7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CC0-3A66-4D1C-91E6-A3FD2B2355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D05-1BBE-43C2-99C6-2203252AB2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FEA-57B8-4334-BC7E-586611105C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464-3F12-478B-A37F-58B91A7BCA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2T17:12:28Z</dcterms:modified>
  <cp:revision>69</cp:revision>
  <dc:subject/>
  <dc:title>General</dc:title>
</cp:coreProperties>
</file>